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camera.wav" ContentType="audio/x-wav"/>
  <Override PartName="/ppt/media/image7.jpeg" ContentType="image/jpeg"/>
  <Override PartName="/ppt/media/chimes.wav" ContentType="audio/x-wav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D2A-E4D9-43A7-93A8-08E2E6BF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DCB-EA15-43AC-9426-ED37058F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924-C6C0-4C29-A28D-936B165C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241-6122-430F-A18F-1DE3A59F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8F37-873A-4649-A9A7-CA17D8B4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5848-A954-4AEE-A303-961E5C81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EB57-5DF0-4A50-9382-6538F95A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11B1-3340-480C-9BCA-8519F396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CC41-0909-4F3B-87C7-D9BEE8AA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5A0A-1C08-48A8-8B52-853B6D8A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DA54-78B3-4019-98C0-8CF0E9FA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73B-921D-4D27-8100-8103E12B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0710-68AC-4C6D-902F-BB385F97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B9D4-32FC-485F-9FB1-51A33A3C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D944-FCED-41D3-BF01-3169F68C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B2AA-ECF5-492E-81C9-2EF32109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F513-1BB3-4D71-A74E-60FC1B22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B07B0-A970-4B8D-A1B9-7BBAC173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099B5-35FA-4CDF-9E2C-78A9E6A2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C574B-D2F7-4309-94BB-5C59970A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BDD4E-4CD6-404B-B103-D522923E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24C8B-4E56-4946-A736-00734D97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8EA7-9C6F-4141-B84A-BFC4E403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BC486-0045-4A97-963E-05065C38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DF8E4-D9C4-443D-B482-2A3406D4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A80E6-828C-4377-8109-55227F5E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B8614-D478-4BE0-868C-2BF62061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A0ED-FB7E-41A5-83F2-50BE9F06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E056-8A3C-482E-8AF0-FF1FC090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6C7E1-5BAE-4C6F-9D17-94E5D7F3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81344-E569-4B19-8E52-7E738CAE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03ED4-03B7-4081-A6D7-40C37D3C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DFD29-0A86-411C-AF83-EE1912E6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A2F-2A87-4A57-92D0-1AE4ADA2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5D82B-CCBD-4457-9193-CED5C876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40FE0-94E7-4410-9502-BA55B531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2C47C-34BE-4888-B188-D217C3ED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DE405-267B-46A6-8B14-E7740CCB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4F7AA-D44E-4CBF-957A-AD225F64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CA301-BDE5-4DF1-BF42-1B8FFA4A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7413F-9ABB-442F-8733-633E29CC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4F8A3-23DF-462E-A68E-2773624A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09BCC-CF4B-4184-B24D-D1E7CEBC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A7F-9009-4915-BFA7-249709D3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B1C-5A5D-4B1B-ACEB-D02AE011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E906-FB80-4B6A-B14B-E47B6FDF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D48-CE22-41E1-A35E-E0B4F71B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005-A870-4855-B32E-4B12DCDB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5D62-BA3F-4AAE-8CAE-E0A5067341F3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CD80-6355-44C3-83CE-C60649121695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4D7F-1547-46EF-BBB8-D5E659AA1F7C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907C-9C74-4919-A88D-00D21A143F24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878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SALES ACIDAS Y SALES HIDRATADA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334800"/>
            <a:ext cx="9144000" cy="581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ormulación y nomenclatura de las sales á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33520" y="1022400"/>
            <a:ext cx="80010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s sales ácidas son aquellas cuyos hidrógenos del ácido del que derivan no han sido todos sustituidos por cationes metál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a sal ácida está formada por la combinación de un catión metálico con un anión que todavía tiene átomos   de hidrógeno sustitu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formulan escribiendo en primer lugar el catión metálico y después el an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la fórmula deben compensarse las cargas positivas y neg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denominan con el nombre del anión seguido de la preposición de y, a continuación, el nombre del catión metá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2819520" y="76320"/>
            <a:ext cx="1676160" cy="5205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emp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533520" y="5634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Na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429000" y="623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Hidrogenosulfuro de so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3429000" y="1309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Hidrogenosulfito de b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533520" y="1249200"/>
            <a:ext cx="236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Ba(HSO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533520" y="2087640"/>
            <a:ext cx="228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Cu(HSiO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3429000" y="20718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Hidrogenometasilicato de cobre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3429000" y="2909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Dihidrogenodifosfato de potas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609480" y="284940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0" y="44197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609480" y="3687840"/>
            <a:ext cx="274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NaHCO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3429000" y="352116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Hidrogenocarbonato de sodio Bicarbonato de so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5"/>
          <p:cNvSpPr/>
          <p:nvPr/>
        </p:nvSpPr>
        <p:spPr>
          <a:xfrm>
            <a:off x="0" y="5257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3505320" y="45100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Hidrogenofosfato de níquel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609480" y="4525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NiHPO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8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9"/>
          <p:cNvSpPr/>
          <p:nvPr/>
        </p:nvSpPr>
        <p:spPr>
          <a:xfrm>
            <a:off x="609480" y="5288040"/>
            <a:ext cx="23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Ca(HCO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3505320" y="534816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Bicarbonato de cal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3505320" y="60339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Dihidrogenoborato de magnes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609480" y="597384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Mg(H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BO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s-ES_tradnl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33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0" y="166680"/>
            <a:ext cx="9144000" cy="5205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rmulación y nomenclatura de las sales hidra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04920" y="80964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rmalmente nos encontramos con que los iones que forman los cristales de las sales están rodeados de moléculas de agua.                   En estos casos se dice que la sal está hidratada, y este hecho lo reflejamos en su fórmula correspond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04920" y="2409840"/>
            <a:ext cx="8839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r ejemplo, en el cloruro de cobalto (II) de color escarlata, hidratado, la fórmula es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CoCl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 6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nos indica que en un cristal de esta sal por cada dos iones cloruro existe un ión cobalto (II) y seis moléculas de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80880" y="4054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denominar estas sales, sólo hay que añadir al nombre de la sal las palabras: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monohidra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dihidra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rihidra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80880" y="4968720"/>
            <a:ext cx="8610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el caso anterior, pues, el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CoCl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 6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loruro de cobalto (II) hexahidra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457200" y="6033960"/>
            <a:ext cx="236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CuSO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 5H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2743200" y="63244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38098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Sulfato de cobre (II) pentahidra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d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4800600" y="20732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loruro de cobalto (II) hexahidra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105520" y="336708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Cl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6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8" descr="CoCl2"/>
          <p:cNvPicPr/>
          <p:nvPr/>
        </p:nvPicPr>
        <p:blipFill>
          <a:blip r:embed="rId1"/>
          <a:stretch/>
        </p:blipFill>
        <p:spPr>
          <a:xfrm>
            <a:off x="990720" y="1600200"/>
            <a:ext cx="3555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1752480" y="5334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yeso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 </a:t>
            </a: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sulfato de calci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dihidra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Yeso"/>
          <p:cNvPicPr/>
          <p:nvPr/>
        </p:nvPicPr>
        <p:blipFill>
          <a:blip r:embed="rId1"/>
          <a:stretch/>
        </p:blipFill>
        <p:spPr>
          <a:xfrm>
            <a:off x="2793960" y="1295280"/>
            <a:ext cx="35560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8:48:20Z</dcterms:created>
  <dc:creator>*</dc:creator>
  <dc:description/>
  <dc:language>en-US</dc:language>
  <cp:lastModifiedBy>TE</cp:lastModifiedBy>
  <dcterms:modified xsi:type="dcterms:W3CDTF">2012-05-03T20:57:26Z</dcterms:modified>
  <cp:revision>20</cp:revision>
  <dc:subject/>
  <dc:title>Presentación de PowerPoint</dc:title>
</cp:coreProperties>
</file>